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2A9-ADBE-4F96-ADAB-83110D0C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173-7318-42D1-A966-199E1DD8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A67-CD39-4785-BB98-C5F611F1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C21-C007-4EA9-8963-8B94E84B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D20-EB64-4745-AFD5-3B9FB0FA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76D-7655-4B99-80AE-82BA671D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CC5-E104-43BD-A38D-1A8CA08C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603-9C40-4356-A366-E3385D98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6AC-2A16-4759-9768-ED9F2E54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64E-6AD4-4D2A-90FF-F04F558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671-7EF1-40CC-B4BB-5998D227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007-9212-4C9D-A881-F729EB09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5787-B9AC-44C6-A5E1-87A80F93A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 create a PowerPoint presentation using clipart and an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raining for teachers to learn how to  navigate PowerPoint including use of all appropriate tools and resources for online cli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create a mock PowerPoint presentation with skills specific to their grad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availability for classroom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rojecto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or Large TV pe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 connection to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proposal to various businesses and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Fundra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Fu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1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ing/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present PowerPoint presentation to classmates/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level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6:40:58Z</dcterms:created>
  <dc:creator>User</dc:creator>
  <dc:description/>
  <dc:language>en-US</dc:language>
  <cp:lastModifiedBy>User</cp:lastModifiedBy>
  <dcterms:modified xsi:type="dcterms:W3CDTF">2008-08-04T16:56:43Z</dcterms:modified>
  <cp:revision>3</cp:revision>
  <dc:subject/>
  <dc:title>Curriculum Goal</dc:title>
</cp:coreProperties>
</file>